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5.jpeg" ContentType="image/jpeg"/>
  <Override PartName="/ppt/media/image7.wmf" ContentType="image/x-wmf"/>
  <Override PartName="/ppt/media/image20.jpeg" ContentType="image/jpeg"/>
  <Override PartName="/ppt/media/image6.jpeg" ContentType="image/jpeg"/>
  <Override PartName="/ppt/media/image10.png" ContentType="image/png"/>
  <Override PartName="/ppt/media/image4.gif" ContentType="image/gif"/>
  <Override PartName="/ppt/media/image1.jpeg" ContentType="image/jpeg"/>
  <Override PartName="/ppt/media/image8.jpeg" ContentType="image/jpeg"/>
  <Override PartName="/ppt/media/image28.png" ContentType="image/png"/>
  <Override PartName="/ppt/media/image3.wmf" ContentType="image/x-wmf"/>
  <Override PartName="/ppt/media/image2.jpeg" ContentType="image/jpeg"/>
  <Override PartName="/ppt/media/image14.png" ContentType="image/png"/>
  <Override PartName="/ppt/media/image29.png" ContentType="image/png"/>
  <Override PartName="/ppt/media/image17.png" ContentType="image/png"/>
  <Override PartName="/ppt/media/image27.png" ContentType="image/png"/>
  <Override PartName="/ppt/media/image15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16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026A-4793-4692-A7E9-72C1706CB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361D-465F-4201-86F4-B153F4F5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A28F-01E0-4A30-92CE-F503F0318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D6FD-F4D2-4B38-B666-5CDF49307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40C3-86E7-481D-A04D-F0A964EF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8ABF-F4F7-4052-A5A7-357EB229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8D9C-B9C7-4631-A545-BEBCE334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E494-81C6-4D94-A1D8-A0B4D726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78E6-D970-45B9-97A2-D1772BD7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734A-74E4-4731-BCD6-6A12418E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7800-DD8F-425F-9148-0053499E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E937-E81B-4CE7-BBA4-C591D4F5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28A8-BA19-489A-9798-19091ECC90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marshallcavendishdigital.com/articledisplay/40/8155/83890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2010-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blishing Company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ok examp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lver Buckle P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Content Placeholder 12" descr="SBP-WTBook-TitlePage_L.jpg"/>
          <p:cNvPicPr/>
          <p:nvPr/>
        </p:nvPicPr>
        <p:blipFill>
          <a:blip r:embed="rId1"/>
          <a:stretch/>
        </p:blipFill>
        <p:spPr>
          <a:xfrm>
            <a:off x="844560" y="1600200"/>
            <a:ext cx="3263760" cy="4525920"/>
          </a:xfrm>
          <a:prstGeom prst="rect">
            <a:avLst/>
          </a:prstGeom>
          <a:ln w="0">
            <a:noFill/>
          </a:ln>
        </p:spPr>
      </p:pic>
      <p:sp>
        <p:nvSpPr>
          <p:cNvPr id="71" name="Left Arrow 6"/>
          <p:cNvSpPr/>
          <p:nvPr/>
        </p:nvSpPr>
        <p:spPr>
          <a:xfrm>
            <a:off x="3276720" y="4191120"/>
            <a:ext cx="2666880" cy="350640"/>
          </a:xfrm>
          <a:prstGeom prst="leftArrow">
            <a:avLst>
              <a:gd name="adj1" fmla="val 50000"/>
              <a:gd name="adj2" fmla="val 5003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ear Publish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ok examp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0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usually find this date o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ers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age of a book – the page behind the title p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Left Arrow 4"/>
          <p:cNvSpPr/>
          <p:nvPr/>
        </p:nvSpPr>
        <p:spPr>
          <a:xfrm>
            <a:off x="2362320" y="4495680"/>
            <a:ext cx="1904760" cy="351000"/>
          </a:xfrm>
          <a:prstGeom prst="leftArrow">
            <a:avLst>
              <a:gd name="adj1" fmla="val 50000"/>
              <a:gd name="adj2" fmla="val 499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-642960" y="1523880"/>
            <a:ext cx="5138640" cy="4953240"/>
          </a:xfrm>
          <a:prstGeom prst="rect">
            <a:avLst/>
          </a:prstGeom>
          <a:ln w="0">
            <a:noFill/>
          </a:ln>
        </p:spPr>
      </p:pic>
      <p:sp>
        <p:nvSpPr>
          <p:cNvPr id="76" name="Left Arrow 7"/>
          <p:cNvSpPr/>
          <p:nvPr/>
        </p:nvSpPr>
        <p:spPr>
          <a:xfrm>
            <a:off x="2286000" y="4343400"/>
            <a:ext cx="2514600" cy="60948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, what was that sourc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Print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’s an exampl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hen, Elizabeth.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ultures of the World: Spa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New York: Marshall Cavendish. 2005. Pri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eb S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Content Placeholder 3" descr="site_thumbs.gif"/>
          <p:cNvPicPr/>
          <p:nvPr/>
        </p:nvPicPr>
        <p:blipFill>
          <a:blip r:embed="rId1"/>
          <a:stretch/>
        </p:blipFill>
        <p:spPr>
          <a:xfrm>
            <a:off x="825480" y="1523880"/>
            <a:ext cx="74199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goes on a web site cita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762120" y="1006560"/>
            <a:ext cx="7497720" cy="5622840"/>
          </a:xfrm>
          <a:prstGeom prst="rect">
            <a:avLst/>
          </a:prstGeom>
          <a:ln w="0">
            <a:noFill/>
          </a:ln>
        </p:spPr>
      </p:pic>
      <p:sp>
        <p:nvSpPr>
          <p:cNvPr id="85" name="Left Arrow 4"/>
          <p:cNvSpPr/>
          <p:nvPr/>
        </p:nvSpPr>
        <p:spPr>
          <a:xfrm rot="19056600">
            <a:off x="4397040" y="3790440"/>
            <a:ext cx="5181480" cy="457200"/>
          </a:xfrm>
          <a:prstGeom prst="leftArrow">
            <a:avLst>
              <a:gd name="adj1" fmla="val 50000"/>
              <a:gd name="adj2" fmla="val 5000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Aut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 of the article on the Web Pag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7518240" cy="5638680"/>
          </a:xfrm>
          <a:prstGeom prst="rect">
            <a:avLst/>
          </a:prstGeom>
          <a:ln w="0">
            <a:noFill/>
          </a:ln>
        </p:spPr>
      </p:pic>
      <p:sp>
        <p:nvSpPr>
          <p:cNvPr id="88" name="Left-Up Arrow 8"/>
          <p:cNvSpPr/>
          <p:nvPr/>
        </p:nvSpPr>
        <p:spPr>
          <a:xfrm>
            <a:off x="6400800" y="914400"/>
            <a:ext cx="2362320" cy="2895480"/>
          </a:xfrm>
          <a:custGeom>
            <a:avLst/>
            <a:gdLst>
              <a:gd name="textAreaLeft" fmla="*/ 288000 w 2362320"/>
              <a:gd name="textAreaRight" fmla="*/ 1757160 w 2362320"/>
              <a:gd name="textAreaTop" fmla="*/ 1995120 h 2895480"/>
              <a:gd name="textAreaBottom" fmla="*/ 2585520 h 2895480"/>
            </a:gdLst>
            <a:ahLst/>
            <a:rect l="textAreaLeft" t="textAreaTop" r="textAreaRight" b="textAreaBottom"/>
            <a:pathLst>
              <a:path w="2362200" h="2895600">
                <a:moveTo>
                  <a:pt x="0" y="2290239"/>
                </a:moveTo>
                <a:lnTo>
                  <a:pt x="590550" y="1684878"/>
                </a:lnTo>
                <a:lnTo>
                  <a:pt x="590550" y="1994964"/>
                </a:lnTo>
                <a:lnTo>
                  <a:pt x="1461564" y="1994964"/>
                </a:lnTo>
                <a:lnTo>
                  <a:pt x="1461564" y="590550"/>
                </a:lnTo>
                <a:lnTo>
                  <a:pt x="1151478" y="590550"/>
                </a:lnTo>
                <a:lnTo>
                  <a:pt x="1756839" y="0"/>
                </a:lnTo>
                <a:lnTo>
                  <a:pt x="2362200" y="590550"/>
                </a:lnTo>
                <a:lnTo>
                  <a:pt x="2052114" y="590550"/>
                </a:lnTo>
                <a:lnTo>
                  <a:pt x="2052114" y="2585514"/>
                </a:lnTo>
                <a:lnTo>
                  <a:pt x="590550" y="2585514"/>
                </a:lnTo>
                <a:lnTo>
                  <a:pt x="590550" y="2895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me of the Web Page(if it’s different from the article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604200" cy="4952880"/>
          </a:xfrm>
          <a:prstGeom prst="rect">
            <a:avLst/>
          </a:prstGeom>
          <a:ln w="0">
            <a:noFill/>
          </a:ln>
        </p:spPr>
      </p:pic>
      <p:sp>
        <p:nvSpPr>
          <p:cNvPr id="91" name="Curved Right Arrow 5"/>
          <p:cNvSpPr/>
          <p:nvPr/>
        </p:nvSpPr>
        <p:spPr>
          <a:xfrm rot="21231000">
            <a:off x="225000" y="663480"/>
            <a:ext cx="1506600" cy="3471840"/>
          </a:xfrm>
          <a:custGeom>
            <a:avLst/>
            <a:gdLst>
              <a:gd name="textAreaLeft" fmla="*/ 201600 w 1506600"/>
              <a:gd name="textAreaRight" fmla="*/ 1305000 w 1506600"/>
              <a:gd name="textAreaTop" fmla="*/ 726480 h 3471840"/>
              <a:gd name="textAreaBottom" fmla="*/ 2557080 h 347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043" stAng="-5400000" swAng="-5400000"/>
                <a:lnTo>
                  <a:pt x="0" y="11387"/>
                </a:lnTo>
                <a:arcTo wR="21600" hR="9043" stAng="10800000" swAng="-3500110"/>
                <a:lnTo>
                  <a:pt x="16200" y="21313"/>
                </a:lnTo>
                <a:lnTo>
                  <a:pt x="21600" y="19257"/>
                </a:lnTo>
                <a:lnTo>
                  <a:pt x="16200" y="16627"/>
                </a:lnTo>
                <a:lnTo>
                  <a:pt x="16200" y="17798"/>
                </a:lnTo>
                <a:arcTo wR="21600" hR="9043" stAng="7299890" swAng="3312182"/>
                <a:lnTo>
                  <a:pt x="182" y="10215"/>
                </a:lnTo>
                <a:arcTo wR="21600" hR="9043" stAng="-10612071" swAng="5212071"/>
                <a:close/>
              </a:path>
              <a:path fill="darkenLess" w="21600" h="21600">
                <a:moveTo>
                  <a:pt x="21600" y="0"/>
                </a:moveTo>
                <a:arcTo wR="21600" hR="9043" stAng="-5400000" swAng="-5400000"/>
                <a:lnTo>
                  <a:pt x="0" y="9043"/>
                </a:lnTo>
                <a:arcTo wR="21600" hR="9043" stAng="10800000" swAng="-187929"/>
                <a:lnTo>
                  <a:pt x="182" y="10215"/>
                </a:lnTo>
                <a:arcTo wR="21600" hR="9043" stAng="-10612071" swAng="5212071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year was it posted or update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7467480" y="3809880"/>
            <a:ext cx="1067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use the most current date you find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95" name="Left Arrow 4"/>
          <p:cNvSpPr/>
          <p:nvPr/>
        </p:nvSpPr>
        <p:spPr>
          <a:xfrm rot="19167600">
            <a:off x="3789360" y="3586320"/>
            <a:ext cx="3798720" cy="668160"/>
          </a:xfrm>
          <a:prstGeom prst="left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Date Posted or Upd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’s the source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      ‘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ite’ mea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Verb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efinition of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I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…………………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o quot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 an example, authority, or proof &lt; He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it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several sources in his research.&gt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………………………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4  to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use information from another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especially as an example or proof.  &lt;She told us to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it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 example that would show the class what we meant.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xamples of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I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report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it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several experts on the subjec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it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 web site by a person who studi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s topic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7" descr="400BlackConfederates.jpg"/>
          <p:cNvPicPr/>
          <p:nvPr/>
        </p:nvPicPr>
        <p:blipFill>
          <a:blip r:embed="rId1"/>
          <a:stretch/>
        </p:blipFill>
        <p:spPr>
          <a:xfrm>
            <a:off x="6553080" y="4191120"/>
            <a:ext cx="1817640" cy="24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’s an exampl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wann, Jennifer Hubert. “Between Shades of Gray by Ruta Sepetys”. Reading Rants! Out of the Ordinary Teen Books. 2011. Web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atab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Content Placeholder 3" descr="CG_homepage_CG_bar.jpg"/>
          <p:cNvPicPr/>
          <p:nvPr/>
        </p:nvPicPr>
        <p:blipFill>
          <a:blip r:embed="rId1"/>
          <a:stretch/>
        </p:blipFill>
        <p:spPr>
          <a:xfrm>
            <a:off x="380880" y="1371600"/>
            <a:ext cx="5318280" cy="762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ebsco.jpg"/>
          <p:cNvPicPr/>
          <p:nvPr/>
        </p:nvPicPr>
        <p:blipFill>
          <a:blip r:embed="rId2"/>
          <a:stretch/>
        </p:blipFill>
        <p:spPr>
          <a:xfrm>
            <a:off x="914400" y="2590920"/>
            <a:ext cx="3124080" cy="919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e-sticker.jpg"/>
          <p:cNvPicPr/>
          <p:nvPr/>
        </p:nvPicPr>
        <p:blipFill>
          <a:blip r:embed="rId3"/>
          <a:stretch/>
        </p:blipFill>
        <p:spPr>
          <a:xfrm>
            <a:off x="5562720" y="2362320"/>
            <a:ext cx="1238040" cy="1238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header_banner.png"/>
          <p:cNvPicPr/>
          <p:nvPr/>
        </p:nvPicPr>
        <p:blipFill>
          <a:blip r:embed="rId4"/>
          <a:stretch/>
        </p:blipFill>
        <p:spPr>
          <a:xfrm>
            <a:off x="609480" y="3886200"/>
            <a:ext cx="5724720" cy="628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wb_foot_disc.gif"/>
          <p:cNvPicPr/>
          <p:nvPr/>
        </p:nvPicPr>
        <p:blipFill>
          <a:blip r:embed="rId5"/>
          <a:stretch/>
        </p:blipFill>
        <p:spPr>
          <a:xfrm>
            <a:off x="609480" y="4648320"/>
            <a:ext cx="3765600" cy="1143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world_book_logo.gif"/>
          <p:cNvPicPr/>
          <p:nvPr/>
        </p:nvPicPr>
        <p:blipFill>
          <a:blip r:embed="rId6"/>
          <a:stretch/>
        </p:blipFill>
        <p:spPr>
          <a:xfrm>
            <a:off x="5867280" y="4876920"/>
            <a:ext cx="1524240" cy="600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mclogo.gif"/>
          <p:cNvPicPr/>
          <p:nvPr/>
        </p:nvPicPr>
        <p:blipFill>
          <a:blip r:embed="rId7"/>
          <a:stretch/>
        </p:blipFill>
        <p:spPr>
          <a:xfrm>
            <a:off x="6172200" y="1219320"/>
            <a:ext cx="23814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asy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6807240" cy="5105160"/>
          </a:xfrm>
          <a:prstGeom prst="rect">
            <a:avLst/>
          </a:prstGeom>
          <a:ln w="0">
            <a:noFill/>
          </a:ln>
        </p:spPr>
      </p:pic>
      <p:sp>
        <p:nvSpPr>
          <p:cNvPr id="110" name="Left Arrow 5"/>
          <p:cNvSpPr/>
          <p:nvPr/>
        </p:nvSpPr>
        <p:spPr>
          <a:xfrm rot="20597400">
            <a:off x="4866840" y="2943000"/>
            <a:ext cx="3581640" cy="457200"/>
          </a:xfrm>
          <a:prstGeom prst="leftArrow">
            <a:avLst>
              <a:gd name="adj1" fmla="val 50000"/>
              <a:gd name="adj2" fmla="val 5001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721640" cy="5791320"/>
          </a:xfrm>
          <a:prstGeom prst="rect">
            <a:avLst/>
          </a:prstGeom>
          <a:ln w="0">
            <a:noFill/>
          </a:ln>
        </p:spPr>
      </p:pic>
      <p:sp>
        <p:nvSpPr>
          <p:cNvPr id="113" name="Left Arrow 4"/>
          <p:cNvSpPr/>
          <p:nvPr/>
        </p:nvSpPr>
        <p:spPr>
          <a:xfrm rot="20392800">
            <a:off x="4923000" y="1211040"/>
            <a:ext cx="3200400" cy="838080"/>
          </a:xfrm>
          <a:prstGeom prst="leftArrow">
            <a:avLst>
              <a:gd name="adj1" fmla="val 50000"/>
              <a:gd name="adj2" fmla="val 5001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026560" cy="6019560"/>
          </a:xfrm>
          <a:prstGeom prst="rect">
            <a:avLst/>
          </a:prstGeom>
          <a:ln w="0">
            <a:noFill/>
          </a:ln>
        </p:spPr>
      </p:pic>
      <p:sp>
        <p:nvSpPr>
          <p:cNvPr id="116" name="Left Arrow 4"/>
          <p:cNvSpPr/>
          <p:nvPr/>
        </p:nvSpPr>
        <p:spPr>
          <a:xfrm rot="20715600">
            <a:off x="3234960" y="3560760"/>
            <a:ext cx="2914560" cy="65412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533520" y="3962520"/>
            <a:ext cx="784836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eft Arrow 3"/>
          <p:cNvSpPr/>
          <p:nvPr/>
        </p:nvSpPr>
        <p:spPr>
          <a:xfrm rot="19006200">
            <a:off x="7477200" y="3085920"/>
            <a:ext cx="2625480" cy="1292040"/>
          </a:xfrm>
          <a:prstGeom prst="leftArrow">
            <a:avLst>
              <a:gd name="adj1" fmla="val 50000"/>
              <a:gd name="adj2" fmla="val 5000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RONG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s Ci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Boston Massacre."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merican Histor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Smithsonian, n.d. Web. 12 Nov. 2010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rtin, James Kirby. "Boston Massacre."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World Book Student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World Book, 2010. Web. 12 Nov. 2010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odriguez, John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Boston Massacre for Beginner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New York: Thornton Publishing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    2010. Print. O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alibri"/>
              </a:rPr>
              <a:t>Rulska, Anna M. "Boston Massacre." </a:t>
            </a:r>
            <a:r>
              <a:rPr b="1" i="1" lang="en-US" sz="1900" spc="-1" strike="noStrike">
                <a:solidFill>
                  <a:srgbClr val="ff0000"/>
                </a:solidFill>
                <a:latin typeface="Calibri"/>
              </a:rPr>
              <a:t>Exploring American History: 1550 to 1877</a:t>
            </a:r>
            <a:r>
              <a:rPr b="1" lang="en-US" sz="1900" spc="-1" strike="noStrike">
                <a:solidFill>
                  <a:srgbClr val="ff0000"/>
                </a:solidFill>
                <a:latin typeface="Calibri"/>
              </a:rPr>
              <a:t>. Marshall Cavendish Digital, 2010. Web. 12 November 2010.</a:t>
            </a:r>
            <a:br>
              <a:rPr sz="1900"/>
            </a:b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&lt;http://www.marshallcavendishdigital.com/articledisplay/40/8155/83890&gt;.</a:t>
            </a:r>
            <a:r>
              <a:rPr b="1" lang="en-US" sz="19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ulska, Anna M. "Boston Massacre." 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xploring American History: 1550 to 1877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Marshall Cavendish Digital, 2010. Web. 12 November 201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eft Arrow 5"/>
          <p:cNvSpPr/>
          <p:nvPr/>
        </p:nvSpPr>
        <p:spPr>
          <a:xfrm rot="1469400">
            <a:off x="6516360" y="5730840"/>
            <a:ext cx="2133720" cy="102384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Righ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r job just got really easy! Bibme.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 cite a 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pictur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from the interne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1046160" y="1219320"/>
            <a:ext cx="733572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’s do one together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Open Wo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Type ‘Works Cited’ at the t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Go to the TMS library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Click on ‘Creative Commons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. Click on ‘Flickr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. Type in ‘climate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. Choose a picture on page 1; click on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 ½. Save the picture in to your ‘H’ dr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. Copy the UR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. Paste it into the Bibme tool for PHOTOGRAPH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ing a PHOTOGRAPH continued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. Fill in the rest of the information asked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. What if information is missing about the photograp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2. Click on ‘Add to my bibliography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. Copy and paste the citation on your ‘Works Cited’ page in Wor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4. SAVE your Word document to your ‘H’ driv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. When you are completely done with your GLOG, copy this Works Cited page to your GLOG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do I have to cite my sourc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Content Placeholder 3" descr="noplagiarism.jpg"/>
          <p:cNvPicPr/>
          <p:nvPr/>
        </p:nvPicPr>
        <p:blipFill>
          <a:blip r:embed="rId1"/>
          <a:stretch/>
        </p:blipFill>
        <p:spPr>
          <a:xfrm>
            <a:off x="334800" y="1676520"/>
            <a:ext cx="78789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do I cite a sourc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C:\Program Files\Microsoft Office\Media\CntCD1\ClipArt2\j0229905.wmf"/>
          <p:cNvPicPr/>
          <p:nvPr/>
        </p:nvPicPr>
        <p:blipFill>
          <a:blip r:embed="rId1"/>
          <a:stretch/>
        </p:blipFill>
        <p:spPr>
          <a:xfrm rot="20436000">
            <a:off x="934560" y="1495080"/>
            <a:ext cx="1503360" cy="1760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C:\Program Files\Microsoft Office\Media\CntCD1\Animated\j0254490.gif"/>
          <p:cNvPicPr/>
          <p:nvPr/>
        </p:nvPicPr>
        <p:blipFill>
          <a:blip r:embed="rId2"/>
          <a:stretch/>
        </p:blipFill>
        <p:spPr>
          <a:xfrm>
            <a:off x="3276720" y="2133720"/>
            <a:ext cx="3047760" cy="4329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imagesCAJ6N9HC.jpg"/>
          <p:cNvPicPr/>
          <p:nvPr/>
        </p:nvPicPr>
        <p:blipFill>
          <a:blip r:embed="rId3"/>
          <a:stretch/>
        </p:blipFill>
        <p:spPr>
          <a:xfrm rot="585600">
            <a:off x="6283440" y="1287360"/>
            <a:ext cx="1903320" cy="237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Time%20Magazine%20on%20Virginia%20Tech-thumb.jpg"/>
          <p:cNvPicPr/>
          <p:nvPr/>
        </p:nvPicPr>
        <p:blipFill>
          <a:blip r:embed="rId4"/>
          <a:stretch/>
        </p:blipFill>
        <p:spPr>
          <a:xfrm rot="20949000">
            <a:off x="762120" y="3733560"/>
            <a:ext cx="1908000" cy="2560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C:\Program Files\Microsoft Office\Media\CntCD1\ClipArt3\j0233553.wmf"/>
          <p:cNvPicPr/>
          <p:nvPr/>
        </p:nvPicPr>
        <p:blipFill>
          <a:blip r:embed="rId5"/>
          <a:stretch/>
        </p:blipFill>
        <p:spPr>
          <a:xfrm rot="387000">
            <a:off x="6324480" y="4191120"/>
            <a:ext cx="2021040" cy="158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It all begins </a:t>
            </a: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with….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uth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st name, First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ohen, Elizabe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5" descr="eliz koh.jpg"/>
          <p:cNvPicPr/>
          <p:nvPr/>
        </p:nvPicPr>
        <p:blipFill>
          <a:blip r:embed="rId1"/>
          <a:stretch/>
        </p:blipFill>
        <p:spPr>
          <a:xfrm>
            <a:off x="457200" y="1828800"/>
            <a:ext cx="35244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19112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ok examp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ltures of the World: Sp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7" descr="Spain.jpg"/>
          <p:cNvPicPr/>
          <p:nvPr/>
        </p:nvPicPr>
        <p:blipFill>
          <a:blip r:embed="rId1"/>
          <a:stretch/>
        </p:blipFill>
        <p:spPr>
          <a:xfrm>
            <a:off x="380880" y="1295280"/>
            <a:ext cx="38671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itle P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41972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ok examp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orks of Mr. William Shakespeare; in six volu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5" descr="title pg.png"/>
          <p:cNvPicPr/>
          <p:nvPr/>
        </p:nvPicPr>
        <p:blipFill>
          <a:blip r:embed="rId1"/>
          <a:stretch/>
        </p:blipFill>
        <p:spPr>
          <a:xfrm>
            <a:off x="1073160" y="1600200"/>
            <a:ext cx="2806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ty the book was published 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Content Placeholder 3" descr="New%20York%20City.jpg"/>
          <p:cNvPicPr/>
          <p:nvPr/>
        </p:nvPicPr>
        <p:blipFill>
          <a:blip r:embed="rId1"/>
          <a:stretch/>
        </p:blipFill>
        <p:spPr>
          <a:xfrm>
            <a:off x="457200" y="2346480"/>
            <a:ext cx="4038480" cy="3033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York, New Y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20:18:09Z</dcterms:created>
  <dc:creator>gel009447</dc:creator>
  <dc:description/>
  <dc:language>en-US</dc:language>
  <cp:lastModifiedBy>gel009447</cp:lastModifiedBy>
  <dcterms:modified xsi:type="dcterms:W3CDTF">2011-04-22T17:23:35Z</dcterms:modified>
  <cp:revision>32</cp:revision>
  <dc:subject/>
  <dc:title>Works Cited</dc:title>
</cp:coreProperties>
</file>